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A6C-3C6D-46BA-9051-04304076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3949992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640" y="19027440"/>
            <a:ext cx="3949992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EC6-A53D-422E-A3ED-7AC0DE51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640" y="1902744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560" y="1902744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9BB-4C6E-426B-9377-8CB815F5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920" y="767988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5840" y="767988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640" y="1902744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920" y="1902744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5840" y="1902744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FBB-E6FE-4193-A4E1-E29A2732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640" y="7679880"/>
            <a:ext cx="394999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FA8-E74D-43E7-9E84-F8ED3693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3949992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F8D-BF66-46E5-B451-A98DB9CD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585-0392-4772-827F-2316DBE0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01B-C88C-48D3-8B0C-66A696F9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640" y="1317600"/>
            <a:ext cx="394999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69D-0BF8-48A4-B77F-DBFCA7EA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640" y="1902744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895-F931-44ED-8623-C38D1600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560" y="1902744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F2C-E38C-4FC2-A860-E338C85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640" y="19027440"/>
            <a:ext cx="3949992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141-4A97-47E9-8EBE-F64B205A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640" y="7679880"/>
            <a:ext cx="3949992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marL="1525680" indent="-152568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1" marL="3306600" indent="-1271520">
              <a:spcBef>
                <a:spcPts val="3574"/>
              </a:spcBef>
              <a:buClr>
                <a:srgbClr val="000000"/>
              </a:buClr>
              <a:buFont typeface="Arial"/>
              <a:buChar char="–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2" marL="5087880" indent="-101736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3" marL="7122960" indent="-1017360">
              <a:spcBef>
                <a:spcPts val="3574"/>
              </a:spcBef>
              <a:buClr>
                <a:srgbClr val="000000"/>
              </a:buClr>
              <a:buFont typeface="Arial"/>
              <a:buChar char="–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4" marL="915984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5" marL="915984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6" marL="915984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5640" y="30509640"/>
            <a:ext cx="10239120" cy="175284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7240" y="30509640"/>
            <a:ext cx="13896720" cy="175284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6440" y="30509640"/>
            <a:ext cx="10239120" cy="175284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484A-8B78-4707-A600-05105B104355}" type="slidenum">
              <a:rPr b="0" lang="en-US" sz="5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64"/>
          <p:cNvSpPr/>
          <p:nvPr/>
        </p:nvSpPr>
        <p:spPr>
          <a:xfrm>
            <a:off x="2263680" y="26746200"/>
            <a:ext cx="5573880" cy="2438280"/>
          </a:xfrm>
          <a:prstGeom prst="ellipse">
            <a:avLst/>
          </a:prstGeom>
          <a:solidFill>
            <a:srgbClr val="1faecd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63"/>
          <p:cNvSpPr/>
          <p:nvPr/>
        </p:nvSpPr>
        <p:spPr>
          <a:xfrm>
            <a:off x="2263680" y="17907120"/>
            <a:ext cx="5573880" cy="2438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2"/>
          <p:cNvSpPr/>
          <p:nvPr/>
        </p:nvSpPr>
        <p:spPr>
          <a:xfrm>
            <a:off x="2263680" y="8229600"/>
            <a:ext cx="5573880" cy="2438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 Box 176" descr=""/>
          <p:cNvPicPr/>
          <p:nvPr/>
        </p:nvPicPr>
        <p:blipFill>
          <a:blip r:embed="rId1"/>
          <a:stretch/>
        </p:blipFill>
        <p:spPr>
          <a:xfrm>
            <a:off x="10180800" y="0"/>
            <a:ext cx="23877360" cy="320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481040" y="4008600"/>
          <a:ext cx="40581360" cy="26471520"/>
        </p:xfrm>
        <a:graphic>
          <a:graphicData uri="http://schemas.openxmlformats.org/drawingml/2006/table">
            <a:tbl>
              <a:tblPr/>
              <a:tblGrid>
                <a:gridCol w="7266240"/>
                <a:gridCol w="10859760"/>
                <a:gridCol w="11869920"/>
                <a:gridCol w="10585440"/>
              </a:tblGrid>
              <a:tr h="1981080"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linicians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hildren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rents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789600"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OBLEM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linicians do not have an effective tool to share information from the medical record. Therefore, the patient and family aren’t fully involved in the care process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hildren need to receive medical information through a memorable experience to facilitate learning.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re is also a need for positive distractions for children during hospital experiences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 stressful situations, it is difficult for parents to absorb information from the clinician.  There is a need to receive this information electronically for reference at home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2566880"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OLUTION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-Rays, labs, meds, pulled   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from the EMR onto tabl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teractive display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nables communication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for shared decision making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teractive games for learning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loring tool for positive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stractio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ep-by-step directions fo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dication us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formation about medical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nditions and medications 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pecific to your child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ransferred to your PDA or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inted for home us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33960"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VIDENCE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formation sharing is an important part of patient and family centered care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uditory, visual, and kinesthetic learning is necessary for children to recall what they are taught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udies have shown that people understand medical instructions when they are given, but cannot always recall them later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319" descr="logo-gatech"/>
          <p:cNvPicPr/>
          <p:nvPr/>
        </p:nvPicPr>
        <p:blipFill>
          <a:blip r:embed="rId2">
            <a:grayscl/>
          </a:blip>
          <a:stretch/>
        </p:blipFill>
        <p:spPr>
          <a:xfrm>
            <a:off x="37098360" y="380880"/>
            <a:ext cx="6248160" cy="2667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88"/>
          <p:cNvSpPr/>
          <p:nvPr/>
        </p:nvSpPr>
        <p:spPr>
          <a:xfrm>
            <a:off x="87480" y="609480"/>
            <a:ext cx="7402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7520" rIns="407520" tIns="203760" bIns="20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Verdana"/>
                <a:ea typeface="Verdana"/>
              </a:rPr>
              <a:t>Pediatric Health Center of the Futur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Verdana"/>
                <a:ea typeface="Verdana"/>
              </a:rPr>
              <a:t>Fall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32308920" y="14401800"/>
            <a:ext cx="7869240" cy="535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20988360" y="14478120"/>
            <a:ext cx="8059680" cy="522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Picture 4" descr=""/>
          <p:cNvPicPr/>
          <p:nvPr/>
        </p:nvPicPr>
        <p:blipFill>
          <a:blip r:embed="rId5"/>
          <a:stretch/>
        </p:blipFill>
        <p:spPr>
          <a:xfrm>
            <a:off x="9809280" y="14478120"/>
            <a:ext cx="7869240" cy="5302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88"/>
          <p:cNvSpPr/>
          <p:nvPr/>
        </p:nvSpPr>
        <p:spPr>
          <a:xfrm>
            <a:off x="1566720" y="31699080"/>
            <a:ext cx="40757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7520" rIns="407520" tIns="203760" bIns="20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Fahad Al-Emam 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   Jamie Beyer 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 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   Randeep Ramamurthy 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Michelle Williams-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ie</dc:creator>
  <dc:description/>
  <dc:language>en-US</dc:language>
  <cp:lastModifiedBy>Jamie</cp:lastModifiedBy>
  <dcterms:modified xsi:type="dcterms:W3CDTF">2007-12-03T01:24:0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